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9.jpeg" ContentType="image/jpe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B6E9-BC0F-4069-93A2-5BA5AC242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243F-A30C-4DCC-B83F-623C706D0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D096-FBE0-4F9F-8C66-BE525F0AD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FEB-6E25-43F7-9336-C291CEEE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ED1-50D5-4065-B07A-0FB0E80A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7E4-F0DC-4211-A954-478D0633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15B-DD8B-4263-AB55-3DFE1D83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BCE-49FC-41AC-A1F8-E3D4EF5D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3D1-A480-48C2-9821-7862A232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325-FBB2-4A44-9A2C-17711D88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B92-62B9-4EA3-9335-45D86126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AE3-E429-4CA7-8B6C-B5FF9AB5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749-0598-49D1-97C6-E67934B6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E4E-FA20-4020-BB13-360E959B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BBB-55F9-4A7E-9449-09620078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8A8-CC63-410D-9CEB-D64B88F7B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:\Картинки\book.jpg"/>
          <p:cNvPicPr/>
          <p:nvPr/>
        </p:nvPicPr>
        <p:blipFill>
          <a:blip r:embed="rId1"/>
          <a:stretch/>
        </p:blipFill>
        <p:spPr>
          <a:xfrm>
            <a:off x="228600" y="2438280"/>
            <a:ext cx="3124080" cy="2295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ниматель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81280" y="3733920"/>
            <a:ext cx="556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проект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ё Александр Дмитриевич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й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асс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Федека Лилия Михайло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80880" y="5904000"/>
            <a:ext cx="838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разовательное учреждение «Общеобразовательная средняя (полная) школа п. Сосновк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оярский район  Ханты-Мансийский автономный округ – Югра Тюмен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33200"/>
            <a:ext cx="8528040" cy="1098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838080" y="182880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елось сделать быстро и сразу, а потом понял, что проект займет много врем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2895480" y="2989440"/>
            <a:ext cx="419112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I:\Картинки\footstep_240x120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981080" y="3124080"/>
            <a:ext cx="7467840" cy="373392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1" descr=""/>
          <p:cNvPicPr/>
          <p:nvPr/>
        </p:nvPicPr>
        <p:blipFill>
          <a:blip r:embed="rId2"/>
          <a:stretch/>
        </p:blipFill>
        <p:spPr>
          <a:xfrm>
            <a:off x="396720" y="133200"/>
            <a:ext cx="8528040" cy="1098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533520" y="167652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с учителем распланировали мою работу: ежедневно по часу, кроме воскресенья, маленькими шажками приближался к финиш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ло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6200" y="24379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     немножко груст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I:\Картинки\1228912137_1_59.jpg"/>
          <p:cNvPicPr/>
          <p:nvPr/>
        </p:nvPicPr>
        <p:blipFill>
          <a:blip r:embed="rId1"/>
          <a:stretch/>
        </p:blipFill>
        <p:spPr>
          <a:xfrm>
            <a:off x="457200" y="3200400"/>
            <a:ext cx="3703680" cy="309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I:\Картинки\malysh-i-karlson-floor-2.jpg"/>
          <p:cNvPicPr/>
          <p:nvPr/>
        </p:nvPicPr>
        <p:blipFill>
          <a:blip r:embed="rId2"/>
          <a:stretch/>
        </p:blipFill>
        <p:spPr>
          <a:xfrm>
            <a:off x="4648320" y="327672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7" descr=""/>
          <p:cNvPicPr/>
          <p:nvPr/>
        </p:nvPicPr>
        <p:blipFill>
          <a:blip r:embed="rId3"/>
          <a:stretch/>
        </p:blipFill>
        <p:spPr>
          <a:xfrm>
            <a:off x="774720" y="55440"/>
            <a:ext cx="75582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33200"/>
            <a:ext cx="8528040" cy="10987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457200" y="16002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ость, что  у меня всё получилось, а грусть – интересное дело завершило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I:\Картинки\1226265521_nez.jpg"/>
          <p:cNvPicPr/>
          <p:nvPr/>
        </p:nvPicPr>
        <p:blipFill>
          <a:blip r:embed="rId2"/>
          <a:srcRect l="1587" t="2186" r="1587" b="8203"/>
          <a:stretch/>
        </p:blipFill>
        <p:spPr>
          <a:xfrm>
            <a:off x="2514600" y="2438280"/>
            <a:ext cx="6235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"/>
          <p:cNvPicPr/>
          <p:nvPr/>
        </p:nvPicPr>
        <p:blipFill>
          <a:blip r:embed="rId1"/>
          <a:stretch/>
        </p:blipFill>
        <p:spPr>
          <a:xfrm>
            <a:off x="450720" y="1657440"/>
            <a:ext cx="8242560" cy="48290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3" descr=""/>
          <p:cNvPicPr/>
          <p:nvPr/>
        </p:nvPicPr>
        <p:blipFill>
          <a:blip r:embed="rId2"/>
          <a:stretch/>
        </p:blipFill>
        <p:spPr>
          <a:xfrm>
            <a:off x="396720" y="133200"/>
            <a:ext cx="85280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моей проектной работы можно использовать и на уроках математики, и во внеклассной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E:\Альбом\111_PANA\Школа\P1110504.JPG"/>
          <p:cNvPicPr/>
          <p:nvPr/>
        </p:nvPicPr>
        <p:blipFill>
          <a:blip r:embed="rId1"/>
          <a:srcRect l="0" t="12829" r="0" b="0"/>
          <a:stretch/>
        </p:blipFill>
        <p:spPr>
          <a:xfrm>
            <a:off x="304920" y="3429000"/>
            <a:ext cx="454500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I:\Картинки\151578_01.jpg"/>
          <p:cNvPicPr/>
          <p:nvPr/>
        </p:nvPicPr>
        <p:blipFill>
          <a:blip r:embed="rId2"/>
          <a:stretch/>
        </p:blipFill>
        <p:spPr>
          <a:xfrm>
            <a:off x="5029200" y="34290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5257800"/>
            <a:ext cx="79246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юсь, мой проект понравится  всем, кто будет изучать таблицу умнож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I:\Картинки\1207150809_n.jpg"/>
          <p:cNvPicPr/>
          <p:nvPr/>
        </p:nvPicPr>
        <p:blipFill>
          <a:blip r:embed="rId1"/>
          <a:srcRect l="0" t="9467" r="0" b="946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9140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рок, где используются информационные технологии, всегда красочный. Его лучше запоминаеш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365724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умаю: современный урок интересней с компьютером, чем просто мел и до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1" descr=""/>
          <p:cNvPicPr/>
          <p:nvPr/>
        </p:nvPicPr>
        <p:blipFill>
          <a:blip r:embed="rId1"/>
          <a:stretch/>
        </p:blipFill>
        <p:spPr>
          <a:xfrm>
            <a:off x="987480" y="798480"/>
            <a:ext cx="73278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Цель проекта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33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казать возможности презентации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пользование их на различных урок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I:\Картинки\sova1.gif"/>
          <p:cNvPicPr/>
          <p:nvPr/>
        </p:nvPicPr>
        <p:blipFill>
          <a:blip r:embed="rId1"/>
          <a:stretch/>
        </p:blipFill>
        <p:spPr>
          <a:xfrm>
            <a:off x="6458040" y="2971800"/>
            <a:ext cx="26859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019920" y="2293920"/>
            <a:ext cx="3502080" cy="4564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казать, что задачи по математике могут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ыть интересным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воить технологии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возможности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Основополагающий в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7760" y="251424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чему современный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рок интересней с информационными технология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I:\Картинки\01.jpg"/>
          <p:cNvPicPr/>
          <p:nvPr/>
        </p:nvPicPr>
        <p:blipFill>
          <a:blip r:embed="rId1"/>
          <a:stretch/>
        </p:blipFill>
        <p:spPr>
          <a:xfrm>
            <a:off x="228600" y="2514600"/>
            <a:ext cx="28875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33200"/>
            <a:ext cx="8528040" cy="1098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838080" y="167652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«Занимательные задачи» – это первые самостоятельные шаги в изучении информатики и информационных технолог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:\Картинки\24.jpg"/>
          <p:cNvPicPr/>
          <p:nvPr/>
        </p:nvPicPr>
        <p:blipFill>
          <a:blip r:embed="rId2"/>
          <a:stretch/>
        </p:blipFill>
        <p:spPr>
          <a:xfrm>
            <a:off x="1752480" y="3962520"/>
            <a:ext cx="46119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33200"/>
            <a:ext cx="8528040" cy="1098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809880" y="1676520"/>
            <a:ext cx="495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у посвятил математике -  этот предмет мне очень нрави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видев задачи в стихах, решил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будет интереснее реш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I:\Картинки\ReadingManiacs.gif"/>
          <p:cNvPicPr/>
          <p:nvPr/>
        </p:nvPicPr>
        <p:blipFill>
          <a:blip r:embed="rId2"/>
          <a:stretch/>
        </p:blipFill>
        <p:spPr>
          <a:xfrm>
            <a:off x="-304920" y="2133720"/>
            <a:ext cx="4476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33200"/>
            <a:ext cx="8528040" cy="1098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914400" y="16002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ачала я думал: в проекте будут просто задачи и кар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I:\Картинки\170357_17.jpg"/>
          <p:cNvPicPr/>
          <p:nvPr/>
        </p:nvPicPr>
        <p:blipFill>
          <a:blip r:embed="rId2"/>
          <a:stretch/>
        </p:blipFill>
        <p:spPr>
          <a:xfrm>
            <a:off x="2438280" y="2971800"/>
            <a:ext cx="46483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574800" y="31860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 рассказа учителя информатики о гиперссылках и анимации  увлёкся и использовал эти приё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1905120"/>
            <a:ext cx="4145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 rot="21141000">
            <a:off x="4608360" y="4500360"/>
            <a:ext cx="2494080" cy="1866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 rot="462000">
            <a:off x="1878120" y="3984120"/>
            <a:ext cx="2752560" cy="20545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" descr=""/>
          <p:cNvPicPr/>
          <p:nvPr/>
        </p:nvPicPr>
        <p:blipFill>
          <a:blip r:embed="rId3"/>
          <a:stretch/>
        </p:blipFill>
        <p:spPr>
          <a:xfrm>
            <a:off x="396720" y="133200"/>
            <a:ext cx="8528040" cy="1098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3962520" y="1600200"/>
            <a:ext cx="5181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адачник» я оформил с помощь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й сборник вошло 30 задач в стихотворной форме  с иллюстрац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 rot="20974800">
            <a:off x="474480" y="1537920"/>
            <a:ext cx="288108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5"/>
          <a:stretch/>
        </p:blipFill>
        <p:spPr>
          <a:xfrm rot="21123600">
            <a:off x="228240" y="3733560"/>
            <a:ext cx="2225520" cy="167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6"/>
          <a:stretch/>
        </p:blipFill>
        <p:spPr>
          <a:xfrm rot="20632200">
            <a:off x="884160" y="5170320"/>
            <a:ext cx="2368800" cy="176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7"/>
          <a:stretch/>
        </p:blipFill>
        <p:spPr>
          <a:xfrm rot="543600">
            <a:off x="6345360" y="4357800"/>
            <a:ext cx="3276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fshteks</cp:lastModifiedBy>
  <dcterms:modified xsi:type="dcterms:W3CDTF">2010-10-20T15:31:5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